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7C639-73CE-4158-A833-DA264F27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8828-21F4-4E6E-AD5B-A1CC1A2A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4433-3460-45CB-9E19-5F6AC5C7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CFF3-C283-4B4C-B6FF-DF1CC2D7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4058-B1ED-42B5-ADB2-46777A2B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5D89-5596-4764-B7AE-5192E827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A187-73ED-42E6-99A4-1B4236D5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8FD8-52EE-4D48-91C0-7DF54F53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D809-BB60-49D2-8C3C-92A023D6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507B-AD25-43E7-91E3-71A5EEC8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F5BA-E395-491C-9A34-B4DB0453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09E3-E707-4969-91B7-E5808E1B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67E8-4CBD-4243-AF8D-2C6BA8F2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9E83-F270-4E65-B32B-4646CA08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F048-CDD3-46A2-86E3-669DABFF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CA16-1376-49E4-9A64-4F65A336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4F10-2795-458F-A7E4-18A7262A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4F1B-745F-4867-9FCE-8BE3BB36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FFDE-DDC3-43A6-8A8B-DA738F2F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CDB28-2D3D-499F-A125-68623657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0842-D72E-41F9-8323-72CD2A88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8A1D-F0C4-4F10-945C-600FD123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1F04-3A85-4266-B429-C9C109D8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FF5F-DA65-4582-8444-9DF5CAE1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BBE2-9544-4559-B4DD-A4B9EAB3589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1D13-51D9-4D6C-8F49-A033B864F68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1556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1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66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х сладкия Исусов глас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“Чадо Мое, ел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е - обременения - 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те успокоя!”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милия Исус блаже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йдох, какъвто бях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паднал, слаб и умор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чисти ме от гря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2664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х сладкия Исусов глас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“Виж живата вод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ром ти давам - пий! Тогаз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бъдеш жив всегда!”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при Исуса приближих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б, жаден, колеблив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живия Източник пих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га с Христа съм жи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68360" y="126324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х сладкия Исусов глас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Към Мене погледн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правдата съм Слънце Аз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 и се спаси!"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към Исуса погледнах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ми стана звезд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ч ходя в Божи светъл пъ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м дома, към Отц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3-22T17:54:37Z</dcterms:modified>
  <cp:revision>48</cp:revision>
  <dc:subject/>
  <dc:title>Slide 1</dc:title>
</cp:coreProperties>
</file>